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2000 South-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C:\WINDOWS\Personal\C21 PowerPoint\Multi_Journal\cover-bl.gif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EIVED CASH FROM SA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3, page 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57200" y="838080"/>
            <a:ext cx="8229600" cy="398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2. Received cash from sales, $325.00. Tape No. 1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52280" y="1752480"/>
            <a:ext cx="4343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ccounts are affec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52280" y="5068800"/>
            <a:ext cx="6858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mount entered in the accou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increase on the deb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nues increase on the credit 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52280" y="3962520"/>
            <a:ext cx="5942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classification chang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are increas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nues are increa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152280" y="2857680"/>
            <a:ext cx="58676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ccount classifi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s asset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s revenue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26"/>
          <p:cNvGrpSpPr/>
          <p:nvPr/>
        </p:nvGrpSpPr>
        <p:grpSpPr>
          <a:xfrm>
            <a:off x="5638680" y="1523880"/>
            <a:ext cx="2971800" cy="3881520"/>
            <a:chOff x="5638680" y="1523880"/>
            <a:chExt cx="2971800" cy="3881520"/>
          </a:xfrm>
        </p:grpSpPr>
        <p:grpSp>
          <p:nvGrpSpPr>
            <p:cNvPr id="48" name="Group 25"/>
            <p:cNvGrpSpPr/>
            <p:nvPr/>
          </p:nvGrpSpPr>
          <p:grpSpPr>
            <a:xfrm>
              <a:off x="5638680" y="3581280"/>
              <a:ext cx="2971800" cy="1824120"/>
              <a:chOff x="5638680" y="3581280"/>
              <a:chExt cx="2971800" cy="1824120"/>
            </a:xfrm>
          </p:grpSpPr>
          <p:sp>
            <p:nvSpPr>
              <p:cNvPr id="49" name="Text Box 11"/>
              <p:cNvSpPr/>
              <p:nvPr/>
            </p:nvSpPr>
            <p:spPr>
              <a:xfrm>
                <a:off x="5638680" y="3581280"/>
                <a:ext cx="297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al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Line 12"/>
              <p:cNvSpPr/>
              <p:nvPr/>
            </p:nvSpPr>
            <p:spPr>
              <a:xfrm>
                <a:off x="5638680" y="3962520"/>
                <a:ext cx="297180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Line 13"/>
              <p:cNvSpPr/>
              <p:nvPr/>
            </p:nvSpPr>
            <p:spPr>
              <a:xfrm>
                <a:off x="7086600" y="396252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24"/>
            <p:cNvGrpSpPr/>
            <p:nvPr/>
          </p:nvGrpSpPr>
          <p:grpSpPr>
            <a:xfrm>
              <a:off x="5638680" y="1523880"/>
              <a:ext cx="2971800" cy="1828800"/>
              <a:chOff x="5638680" y="1523880"/>
              <a:chExt cx="2971800" cy="1828800"/>
            </a:xfrm>
          </p:grpSpPr>
          <p:sp>
            <p:nvSpPr>
              <p:cNvPr id="53" name="Text Box 15"/>
              <p:cNvSpPr/>
              <p:nvPr/>
            </p:nvSpPr>
            <p:spPr>
              <a:xfrm>
                <a:off x="5638680" y="1523880"/>
                <a:ext cx="297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as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Line 16"/>
              <p:cNvSpPr/>
              <p:nvPr/>
            </p:nvSpPr>
            <p:spPr>
              <a:xfrm>
                <a:off x="5638680" y="1905120"/>
                <a:ext cx="2971800" cy="4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Line 17"/>
              <p:cNvSpPr/>
              <p:nvPr/>
            </p:nvSpPr>
            <p:spPr>
              <a:xfrm>
                <a:off x="7086600" y="190980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Text Box 18"/>
          <p:cNvSpPr/>
          <p:nvPr/>
        </p:nvSpPr>
        <p:spPr>
          <a:xfrm>
            <a:off x="5563080" y="205740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6036480" y="2843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5819040" y="2590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5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7609680" y="4824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7425720" y="4572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5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7144200" y="409248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ID CASH TO OWNER FOR PERSONAL 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" descr="D:\C21 PowerPoint\Multi_Journal\art for blue\Ch04\Ch04-03e.jpg"/>
          <p:cNvPicPr/>
          <p:nvPr/>
        </p:nvPicPr>
        <p:blipFill>
          <a:blip r:embed="rId1"/>
          <a:stretch/>
        </p:blipFill>
        <p:spPr>
          <a:xfrm>
            <a:off x="419040" y="1600200"/>
            <a:ext cx="8454960" cy="13716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3, page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457200" y="22096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8077320" y="28954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3352680" y="28954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57200" y="838080"/>
            <a:ext cx="8229600" cy="703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2. Paid cash to owner for personal use, $100.00. Check No. 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169200" y="3657600"/>
            <a:ext cx="27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168120" y="4038480"/>
            <a:ext cx="49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t Barbara Treviño, Draw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167760" y="4400640"/>
            <a:ext cx="253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Ca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67760" y="4762440"/>
            <a:ext cx="53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source documen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6"/>
          <p:cNvGrpSpPr/>
          <p:nvPr/>
        </p:nvGrpSpPr>
        <p:grpSpPr>
          <a:xfrm>
            <a:off x="2895120" y="1371600"/>
            <a:ext cx="1600560" cy="1295280"/>
            <a:chOff x="2895120" y="1371600"/>
            <a:chExt cx="1600560" cy="1295280"/>
          </a:xfrm>
        </p:grpSpPr>
        <p:sp>
          <p:nvSpPr>
            <p:cNvPr id="224" name="Line 14"/>
            <p:cNvSpPr/>
            <p:nvPr/>
          </p:nvSpPr>
          <p:spPr>
            <a:xfrm flipH="1">
              <a:off x="2895120" y="1828800"/>
              <a:ext cx="838440" cy="8380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3886200" y="1828800"/>
              <a:ext cx="609480" cy="7621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8"/>
            <p:cNvSpPr/>
            <p:nvPr/>
          </p:nvSpPr>
          <p:spPr>
            <a:xfrm>
              <a:off x="3581280" y="137160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8" descr="D:\C21 PowerPoint\Multi_Journal\art for blue\Ch04\Ch04-03a.jpg"/>
          <p:cNvPicPr/>
          <p:nvPr/>
        </p:nvPicPr>
        <p:blipFill>
          <a:blip r:embed="rId1"/>
          <a:stretch/>
        </p:blipFill>
        <p:spPr>
          <a:xfrm>
            <a:off x="419040" y="1619280"/>
            <a:ext cx="8454960" cy="1371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EIVED CASH FROM SALE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3, page 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57200" y="838080"/>
            <a:ext cx="8229600" cy="398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2. Received cash from sales, $325.00. Tape No. 1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6"/>
          <p:cNvSpPr/>
          <p:nvPr/>
        </p:nvSpPr>
        <p:spPr>
          <a:xfrm>
            <a:off x="533520" y="23814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7"/>
          <p:cNvSpPr/>
          <p:nvPr/>
        </p:nvSpPr>
        <p:spPr>
          <a:xfrm>
            <a:off x="7620120" y="28386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8"/>
          <p:cNvSpPr/>
          <p:nvPr/>
        </p:nvSpPr>
        <p:spPr>
          <a:xfrm>
            <a:off x="3390840" y="289548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69200" y="3657600"/>
            <a:ext cx="27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171360" y="40384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t Ca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67760" y="4400640"/>
            <a:ext cx="257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S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167760" y="4762440"/>
            <a:ext cx="53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source documen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20"/>
          <p:cNvGrpSpPr/>
          <p:nvPr/>
        </p:nvGrpSpPr>
        <p:grpSpPr>
          <a:xfrm>
            <a:off x="1523520" y="1542960"/>
            <a:ext cx="5029560" cy="1219320"/>
            <a:chOff x="1523520" y="1542960"/>
            <a:chExt cx="5029560" cy="1219320"/>
          </a:xfrm>
        </p:grpSpPr>
        <p:sp>
          <p:nvSpPr>
            <p:cNvPr id="74" name="Line 14"/>
            <p:cNvSpPr/>
            <p:nvPr/>
          </p:nvSpPr>
          <p:spPr>
            <a:xfrm>
              <a:off x="5715000" y="1847880"/>
              <a:ext cx="838080" cy="8380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5"/>
            <p:cNvSpPr/>
            <p:nvPr/>
          </p:nvSpPr>
          <p:spPr>
            <a:xfrm flipH="1">
              <a:off x="4114440" y="1619280"/>
              <a:ext cx="152388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 flipH="1">
              <a:off x="1523520" y="1771560"/>
              <a:ext cx="3962520" cy="9907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16"/>
            <p:cNvSpPr/>
            <p:nvPr/>
          </p:nvSpPr>
          <p:spPr>
            <a:xfrm>
              <a:off x="5410080" y="154296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D SERVICES ON ACCOU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3, page 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57200" y="838080"/>
            <a:ext cx="8229600" cy="703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2. Sold services on account to Kids Time, $200.00. Sales Invoice No.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52280" y="1752480"/>
            <a:ext cx="4343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ccounts are affec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 Receivable—Kids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152280" y="5297400"/>
            <a:ext cx="6858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mount entered in the accou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increase on the deb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nues increase on the credit 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52280" y="4114800"/>
            <a:ext cx="5942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classification chang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are increas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nues are increa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52280" y="2933640"/>
            <a:ext cx="6553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ccount classifi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 Receivable—Kids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asset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s revenue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5638680" y="1523880"/>
            <a:ext cx="2971800" cy="3881520"/>
            <a:chOff x="5638680" y="1523880"/>
            <a:chExt cx="2971800" cy="3881520"/>
          </a:xfrm>
        </p:grpSpPr>
        <p:grpSp>
          <p:nvGrpSpPr>
            <p:cNvPr id="86" name="Group 10"/>
            <p:cNvGrpSpPr/>
            <p:nvPr/>
          </p:nvGrpSpPr>
          <p:grpSpPr>
            <a:xfrm>
              <a:off x="5638680" y="3581280"/>
              <a:ext cx="2971800" cy="1824120"/>
              <a:chOff x="5638680" y="3581280"/>
              <a:chExt cx="2971800" cy="1824120"/>
            </a:xfrm>
          </p:grpSpPr>
          <p:sp>
            <p:nvSpPr>
              <p:cNvPr id="87" name="Text Box 11"/>
              <p:cNvSpPr/>
              <p:nvPr/>
            </p:nvSpPr>
            <p:spPr>
              <a:xfrm>
                <a:off x="5638680" y="3581280"/>
                <a:ext cx="297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al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Line 12"/>
              <p:cNvSpPr/>
              <p:nvPr/>
            </p:nvSpPr>
            <p:spPr>
              <a:xfrm>
                <a:off x="5638680" y="3962520"/>
                <a:ext cx="297180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13"/>
              <p:cNvSpPr/>
              <p:nvPr/>
            </p:nvSpPr>
            <p:spPr>
              <a:xfrm>
                <a:off x="7086600" y="396252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Group 14"/>
            <p:cNvGrpSpPr/>
            <p:nvPr/>
          </p:nvGrpSpPr>
          <p:grpSpPr>
            <a:xfrm>
              <a:off x="5638680" y="1523880"/>
              <a:ext cx="2971800" cy="1828800"/>
              <a:chOff x="5638680" y="1523880"/>
              <a:chExt cx="2971800" cy="1828800"/>
            </a:xfrm>
          </p:grpSpPr>
          <p:sp>
            <p:nvSpPr>
              <p:cNvPr id="91" name="Text Box 15"/>
              <p:cNvSpPr/>
              <p:nvPr/>
            </p:nvSpPr>
            <p:spPr>
              <a:xfrm>
                <a:off x="5638680" y="1523880"/>
                <a:ext cx="297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counts Rec.—Kids Ti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Line 16"/>
              <p:cNvSpPr/>
              <p:nvPr/>
            </p:nvSpPr>
            <p:spPr>
              <a:xfrm>
                <a:off x="5638680" y="1905120"/>
                <a:ext cx="2971800" cy="4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17"/>
              <p:cNvSpPr/>
              <p:nvPr/>
            </p:nvSpPr>
            <p:spPr>
              <a:xfrm>
                <a:off x="7086600" y="190980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" name="Text Box 18"/>
          <p:cNvSpPr/>
          <p:nvPr/>
        </p:nvSpPr>
        <p:spPr>
          <a:xfrm>
            <a:off x="5563080" y="205740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6036480" y="2843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0"/>
          <p:cNvSpPr/>
          <p:nvPr/>
        </p:nvSpPr>
        <p:spPr>
          <a:xfrm>
            <a:off x="5819040" y="2590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7609680" y="4824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7425720" y="4572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7144200" y="409248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8" descr="D:\C21 PowerPoint\Multi_Journal\art for blue\Ch04\Ch04-03b.jpg"/>
          <p:cNvPicPr/>
          <p:nvPr/>
        </p:nvPicPr>
        <p:blipFill>
          <a:blip r:embed="rId1"/>
          <a:stretch/>
        </p:blipFill>
        <p:spPr>
          <a:xfrm>
            <a:off x="457200" y="1600200"/>
            <a:ext cx="8454960" cy="1371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D SERVICES ON ACCOUN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3, page 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57200" y="838080"/>
            <a:ext cx="8229600" cy="703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2. Sold services on account to Kids Time, $200.00. Sales Invoice No.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533520" y="23623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6324480" y="29718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3390840" y="29718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69200" y="3657600"/>
            <a:ext cx="27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71360" y="40384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t Ca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67760" y="4400640"/>
            <a:ext cx="257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S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67760" y="4762440"/>
            <a:ext cx="53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source documen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22"/>
          <p:cNvGrpSpPr/>
          <p:nvPr/>
        </p:nvGrpSpPr>
        <p:grpSpPr>
          <a:xfrm>
            <a:off x="2666880" y="1600200"/>
            <a:ext cx="1828800" cy="1066680"/>
            <a:chOff x="2666880" y="1600200"/>
            <a:chExt cx="1828800" cy="1066680"/>
          </a:xfrm>
        </p:grpSpPr>
        <p:sp>
          <p:nvSpPr>
            <p:cNvPr id="112" name="Line 19"/>
            <p:cNvSpPr/>
            <p:nvPr/>
          </p:nvSpPr>
          <p:spPr>
            <a:xfrm>
              <a:off x="2895480" y="1905120"/>
              <a:ext cx="0" cy="7617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20"/>
            <p:cNvSpPr/>
            <p:nvPr/>
          </p:nvSpPr>
          <p:spPr>
            <a:xfrm>
              <a:off x="3048120" y="1905120"/>
              <a:ext cx="1447560" cy="7617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17"/>
            <p:cNvSpPr/>
            <p:nvPr/>
          </p:nvSpPr>
          <p:spPr>
            <a:xfrm>
              <a:off x="2666880" y="160020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ID CASH FOR AN EXPE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3, page 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457200" y="838080"/>
            <a:ext cx="8229600" cy="398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2. Paid cash for rent, $250.00. Check No. 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52280" y="1752480"/>
            <a:ext cx="5181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ccounts are affec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t Exp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52280" y="5181480"/>
            <a:ext cx="71629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mount entered in the accou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es increase on the deb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decrease on the credit 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152280" y="3962520"/>
            <a:ext cx="59421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classification chang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es are increas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are decrea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152280" y="2819520"/>
            <a:ext cx="6324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ccount classifi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t Expens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n expense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asset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26"/>
          <p:cNvGrpSpPr/>
          <p:nvPr/>
        </p:nvGrpSpPr>
        <p:grpSpPr>
          <a:xfrm>
            <a:off x="5315040" y="1523880"/>
            <a:ext cx="3524040" cy="3881520"/>
            <a:chOff x="5315040" y="1523880"/>
            <a:chExt cx="3524040" cy="3881520"/>
          </a:xfrm>
        </p:grpSpPr>
        <p:grpSp>
          <p:nvGrpSpPr>
            <p:cNvPr id="123" name="Group 10"/>
            <p:cNvGrpSpPr/>
            <p:nvPr/>
          </p:nvGrpSpPr>
          <p:grpSpPr>
            <a:xfrm>
              <a:off x="5638680" y="3581280"/>
              <a:ext cx="2971800" cy="1824120"/>
              <a:chOff x="5638680" y="3581280"/>
              <a:chExt cx="2971800" cy="1824120"/>
            </a:xfrm>
          </p:grpSpPr>
          <p:sp>
            <p:nvSpPr>
              <p:cNvPr id="124" name="Text Box 11"/>
              <p:cNvSpPr/>
              <p:nvPr/>
            </p:nvSpPr>
            <p:spPr>
              <a:xfrm>
                <a:off x="6714360" y="358128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as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12"/>
              <p:cNvSpPr/>
              <p:nvPr/>
            </p:nvSpPr>
            <p:spPr>
              <a:xfrm>
                <a:off x="5638680" y="3962520"/>
                <a:ext cx="297180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3"/>
              <p:cNvSpPr/>
              <p:nvPr/>
            </p:nvSpPr>
            <p:spPr>
              <a:xfrm>
                <a:off x="7086600" y="396252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25"/>
            <p:cNvGrpSpPr/>
            <p:nvPr/>
          </p:nvGrpSpPr>
          <p:grpSpPr>
            <a:xfrm>
              <a:off x="5315040" y="1523880"/>
              <a:ext cx="3524040" cy="1828800"/>
              <a:chOff x="5315040" y="1523880"/>
              <a:chExt cx="3524040" cy="1828800"/>
            </a:xfrm>
          </p:grpSpPr>
          <p:sp>
            <p:nvSpPr>
              <p:cNvPr id="128" name="Text Box 15"/>
              <p:cNvSpPr/>
              <p:nvPr/>
            </p:nvSpPr>
            <p:spPr>
              <a:xfrm>
                <a:off x="5315040" y="1523880"/>
                <a:ext cx="352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nt Expen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16"/>
              <p:cNvGrpSpPr/>
              <p:nvPr/>
            </p:nvGrpSpPr>
            <p:grpSpPr>
              <a:xfrm>
                <a:off x="5410080" y="1905120"/>
                <a:ext cx="3429000" cy="1447560"/>
                <a:chOff x="5410080" y="1905120"/>
                <a:chExt cx="3429000" cy="1447560"/>
              </a:xfrm>
            </p:grpSpPr>
            <p:sp>
              <p:nvSpPr>
                <p:cNvPr id="130" name="Line 17"/>
                <p:cNvSpPr/>
                <p:nvPr/>
              </p:nvSpPr>
              <p:spPr>
                <a:xfrm>
                  <a:off x="5410080" y="1905120"/>
                  <a:ext cx="3429000" cy="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18"/>
                <p:cNvSpPr/>
                <p:nvPr/>
              </p:nvSpPr>
              <p:spPr>
                <a:xfrm>
                  <a:off x="7086600" y="1909800"/>
                  <a:ext cx="0" cy="14428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2" name="Text Box 19"/>
          <p:cNvSpPr/>
          <p:nvPr/>
        </p:nvSpPr>
        <p:spPr>
          <a:xfrm>
            <a:off x="5544000" y="205740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6036480" y="2766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1"/>
          <p:cNvSpPr/>
          <p:nvPr/>
        </p:nvSpPr>
        <p:spPr>
          <a:xfrm>
            <a:off x="58190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2"/>
          <p:cNvSpPr/>
          <p:nvPr/>
        </p:nvSpPr>
        <p:spPr>
          <a:xfrm flipV="1">
            <a:off x="7679520" y="4287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7495560" y="40384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5544000" y="409248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7" descr="D:\C21 PowerPoint\Multi_Journal\art for blue\Ch04\Ch04-03c.jpg"/>
          <p:cNvPicPr/>
          <p:nvPr/>
        </p:nvPicPr>
        <p:blipFill>
          <a:blip r:embed="rId1"/>
          <a:stretch/>
        </p:blipFill>
        <p:spPr>
          <a:xfrm>
            <a:off x="417600" y="1600200"/>
            <a:ext cx="8447040" cy="15778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ID CASH FOR AN EXPENS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3, page 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457200" y="838080"/>
            <a:ext cx="8229600" cy="398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2. Paid cash for rent, $250.00. Check No. 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6"/>
          <p:cNvSpPr/>
          <p:nvPr/>
        </p:nvSpPr>
        <p:spPr>
          <a:xfrm>
            <a:off x="609480" y="23623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8534520" y="20574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3429000" y="289548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69200" y="3657600"/>
            <a:ext cx="27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70280" y="4038480"/>
            <a:ext cx="34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t Rent Expen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67760" y="4400640"/>
            <a:ext cx="253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Ca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67760" y="4762440"/>
            <a:ext cx="53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source documen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13"/>
          <p:cNvGrpSpPr/>
          <p:nvPr/>
        </p:nvGrpSpPr>
        <p:grpSpPr>
          <a:xfrm>
            <a:off x="2438280" y="1523880"/>
            <a:ext cx="1981440" cy="1143000"/>
            <a:chOff x="2438280" y="1523880"/>
            <a:chExt cx="1981440" cy="1143000"/>
          </a:xfrm>
        </p:grpSpPr>
        <p:sp>
          <p:nvSpPr>
            <p:cNvPr id="150" name="Line 14"/>
            <p:cNvSpPr/>
            <p:nvPr/>
          </p:nvSpPr>
          <p:spPr>
            <a:xfrm>
              <a:off x="3581280" y="1828800"/>
              <a:ext cx="838440" cy="8380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5"/>
            <p:cNvSpPr/>
            <p:nvPr/>
          </p:nvSpPr>
          <p:spPr>
            <a:xfrm flipH="1">
              <a:off x="2438280" y="1600200"/>
              <a:ext cx="1067040" cy="1066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3276720" y="152388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EIVED CASH ON ACCOU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3, page 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57200" y="838080"/>
            <a:ext cx="8229600" cy="703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2. Received cash on account from Kids Time, $100.00. Receipt No.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152280" y="1752480"/>
            <a:ext cx="4343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ccounts are affec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 Receivable—Kids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52280" y="5068800"/>
            <a:ext cx="6858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mount entered in the accou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increase on the deb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decrease on the credit 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52280" y="3962520"/>
            <a:ext cx="5942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classification chang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are increas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are decrea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152280" y="2857680"/>
            <a:ext cx="58676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ccount classifi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asset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 Rec.—Kids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asset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5638680" y="1523880"/>
            <a:ext cx="2971800" cy="3881520"/>
            <a:chOff x="5638680" y="1523880"/>
            <a:chExt cx="2971800" cy="3881520"/>
          </a:xfrm>
        </p:grpSpPr>
        <p:grpSp>
          <p:nvGrpSpPr>
            <p:cNvPr id="161" name="Group 10"/>
            <p:cNvGrpSpPr/>
            <p:nvPr/>
          </p:nvGrpSpPr>
          <p:grpSpPr>
            <a:xfrm>
              <a:off x="5638680" y="3581280"/>
              <a:ext cx="2971800" cy="1824120"/>
              <a:chOff x="5638680" y="3581280"/>
              <a:chExt cx="2971800" cy="1824120"/>
            </a:xfrm>
          </p:grpSpPr>
          <p:sp>
            <p:nvSpPr>
              <p:cNvPr id="162" name="Text Box 11"/>
              <p:cNvSpPr/>
              <p:nvPr/>
            </p:nvSpPr>
            <p:spPr>
              <a:xfrm>
                <a:off x="5638680" y="3581280"/>
                <a:ext cx="297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counts Rec.—Kids Ti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Line 12"/>
              <p:cNvSpPr/>
              <p:nvPr/>
            </p:nvSpPr>
            <p:spPr>
              <a:xfrm>
                <a:off x="5638680" y="3962520"/>
                <a:ext cx="297180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Line 13"/>
              <p:cNvSpPr/>
              <p:nvPr/>
            </p:nvSpPr>
            <p:spPr>
              <a:xfrm>
                <a:off x="7086600" y="396252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Group 14"/>
            <p:cNvGrpSpPr/>
            <p:nvPr/>
          </p:nvGrpSpPr>
          <p:grpSpPr>
            <a:xfrm>
              <a:off x="5638680" y="1523880"/>
              <a:ext cx="2971800" cy="1828800"/>
              <a:chOff x="5638680" y="1523880"/>
              <a:chExt cx="2971800" cy="1828800"/>
            </a:xfrm>
          </p:grpSpPr>
          <p:sp>
            <p:nvSpPr>
              <p:cNvPr id="166" name="Text Box 15"/>
              <p:cNvSpPr/>
              <p:nvPr/>
            </p:nvSpPr>
            <p:spPr>
              <a:xfrm>
                <a:off x="5638680" y="1523880"/>
                <a:ext cx="297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as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16"/>
              <p:cNvSpPr/>
              <p:nvPr/>
            </p:nvSpPr>
            <p:spPr>
              <a:xfrm>
                <a:off x="5638680" y="1905120"/>
                <a:ext cx="2971800" cy="4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17"/>
              <p:cNvSpPr/>
              <p:nvPr/>
            </p:nvSpPr>
            <p:spPr>
              <a:xfrm>
                <a:off x="7086600" y="190980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Text Box 18"/>
          <p:cNvSpPr/>
          <p:nvPr/>
        </p:nvSpPr>
        <p:spPr>
          <a:xfrm>
            <a:off x="5563080" y="205740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9"/>
          <p:cNvSpPr/>
          <p:nvPr/>
        </p:nvSpPr>
        <p:spPr>
          <a:xfrm>
            <a:off x="6036480" y="2843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0"/>
          <p:cNvSpPr/>
          <p:nvPr/>
        </p:nvSpPr>
        <p:spPr>
          <a:xfrm>
            <a:off x="5819040" y="2590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1"/>
          <p:cNvSpPr/>
          <p:nvPr/>
        </p:nvSpPr>
        <p:spPr>
          <a:xfrm flipV="1">
            <a:off x="7609680" y="4821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2"/>
          <p:cNvSpPr/>
          <p:nvPr/>
        </p:nvSpPr>
        <p:spPr>
          <a:xfrm>
            <a:off x="7425720" y="4572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5544000" y="409248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8" descr="D:\C21 PowerPoint\Multi_Journal\art for blue\Ch04\Ch04-03d.jpg"/>
          <p:cNvPicPr/>
          <p:nvPr/>
        </p:nvPicPr>
        <p:blipFill>
          <a:blip r:embed="rId1"/>
          <a:stretch/>
        </p:blipFill>
        <p:spPr>
          <a:xfrm>
            <a:off x="419040" y="1600200"/>
            <a:ext cx="8454960" cy="1371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EIVED CASH ON ACCOUN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3, page 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457200" y="838080"/>
            <a:ext cx="8229600" cy="703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2. Received cash on account from Kids Time, $100.00. Receipt No.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533520" y="23814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7620120" y="28386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390840" y="289548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169200" y="3657600"/>
            <a:ext cx="27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171360" y="40384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t Ca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167760" y="4400640"/>
            <a:ext cx="257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S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167760" y="4762440"/>
            <a:ext cx="53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source documen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23"/>
          <p:cNvGrpSpPr/>
          <p:nvPr/>
        </p:nvGrpSpPr>
        <p:grpSpPr>
          <a:xfrm>
            <a:off x="2438280" y="1523880"/>
            <a:ext cx="2971800" cy="1143000"/>
            <a:chOff x="2438280" y="1523880"/>
            <a:chExt cx="2971800" cy="1143000"/>
          </a:xfrm>
        </p:grpSpPr>
        <p:sp>
          <p:nvSpPr>
            <p:cNvPr id="187" name="Line 20"/>
            <p:cNvSpPr/>
            <p:nvPr/>
          </p:nvSpPr>
          <p:spPr>
            <a:xfrm>
              <a:off x="3581280" y="1828800"/>
              <a:ext cx="1828800" cy="8380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21"/>
            <p:cNvSpPr/>
            <p:nvPr/>
          </p:nvSpPr>
          <p:spPr>
            <a:xfrm flipH="1">
              <a:off x="2438280" y="1600200"/>
              <a:ext cx="1067040" cy="1066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22"/>
            <p:cNvSpPr/>
            <p:nvPr/>
          </p:nvSpPr>
          <p:spPr>
            <a:xfrm>
              <a:off x="3276720" y="152388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ID CASH TO OWNER FOR PERSONAL 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3, page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457200" y="838080"/>
            <a:ext cx="8229600" cy="703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2. Paid cash to owner for personal use, $100.00. Check No. 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152280" y="1752480"/>
            <a:ext cx="4343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ccounts are affec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bara Treviño, Drawin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152280" y="5526000"/>
            <a:ext cx="65534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mount entered in the accou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ner’s equity accounts decrease on the debit 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decrease on the cred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152280" y="4172040"/>
            <a:ext cx="50292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classification chang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drawals are increased. (This results in a decrease in owner’s equity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are decreas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152280" y="2819520"/>
            <a:ext cx="5257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ccount classifi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bara Treviño, Draw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owner’s equity account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asset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26"/>
          <p:cNvGrpSpPr/>
          <p:nvPr/>
        </p:nvGrpSpPr>
        <p:grpSpPr>
          <a:xfrm>
            <a:off x="5638680" y="1523880"/>
            <a:ext cx="2971800" cy="3881520"/>
            <a:chOff x="5638680" y="1523880"/>
            <a:chExt cx="2971800" cy="3881520"/>
          </a:xfrm>
        </p:grpSpPr>
        <p:grpSp>
          <p:nvGrpSpPr>
            <p:cNvPr id="198" name="Group 25"/>
            <p:cNvGrpSpPr/>
            <p:nvPr/>
          </p:nvGrpSpPr>
          <p:grpSpPr>
            <a:xfrm>
              <a:off x="5638680" y="3581280"/>
              <a:ext cx="2971800" cy="1824120"/>
              <a:chOff x="5638680" y="3581280"/>
              <a:chExt cx="2971800" cy="1824120"/>
            </a:xfrm>
          </p:grpSpPr>
          <p:sp>
            <p:nvSpPr>
              <p:cNvPr id="199" name="Text Box 11"/>
              <p:cNvSpPr/>
              <p:nvPr/>
            </p:nvSpPr>
            <p:spPr>
              <a:xfrm>
                <a:off x="5753160" y="3581280"/>
                <a:ext cx="285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as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12"/>
              <p:cNvSpPr/>
              <p:nvPr/>
            </p:nvSpPr>
            <p:spPr>
              <a:xfrm>
                <a:off x="5638680" y="3962520"/>
                <a:ext cx="297180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13"/>
              <p:cNvSpPr/>
              <p:nvPr/>
            </p:nvSpPr>
            <p:spPr>
              <a:xfrm>
                <a:off x="7086600" y="396252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24"/>
            <p:cNvGrpSpPr/>
            <p:nvPr/>
          </p:nvGrpSpPr>
          <p:grpSpPr>
            <a:xfrm>
              <a:off x="5638680" y="1523880"/>
              <a:ext cx="2971800" cy="1828800"/>
              <a:chOff x="5638680" y="1523880"/>
              <a:chExt cx="2971800" cy="1828800"/>
            </a:xfrm>
          </p:grpSpPr>
          <p:sp>
            <p:nvSpPr>
              <p:cNvPr id="203" name="Text Box 15"/>
              <p:cNvSpPr/>
              <p:nvPr/>
            </p:nvSpPr>
            <p:spPr>
              <a:xfrm>
                <a:off x="5638680" y="1523880"/>
                <a:ext cx="297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arbara Treviño, Draw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16"/>
              <p:cNvSpPr/>
              <p:nvPr/>
            </p:nvSpPr>
            <p:spPr>
              <a:xfrm>
                <a:off x="5638680" y="1905120"/>
                <a:ext cx="2971800" cy="4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17"/>
              <p:cNvSpPr/>
              <p:nvPr/>
            </p:nvSpPr>
            <p:spPr>
              <a:xfrm>
                <a:off x="7086600" y="190980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" name="Text Box 18"/>
          <p:cNvSpPr/>
          <p:nvPr/>
        </p:nvSpPr>
        <p:spPr>
          <a:xfrm>
            <a:off x="5563080" y="205740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5542560" y="407844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6036480" y="2843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5819040" y="2590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2"/>
          <p:cNvSpPr/>
          <p:nvPr/>
        </p:nvSpPr>
        <p:spPr>
          <a:xfrm flipV="1">
            <a:off x="7659000" y="487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23"/>
          <p:cNvSpPr/>
          <p:nvPr/>
        </p:nvSpPr>
        <p:spPr>
          <a:xfrm>
            <a:off x="7475040" y="4626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3:17:25Z</dcterms:created>
  <dc:creator>Mary Colleen McLaughlin</dc:creator>
  <dc:description/>
  <dc:language>en-US</dc:language>
  <cp:lastModifiedBy>David Combs</cp:lastModifiedBy>
  <dcterms:modified xsi:type="dcterms:W3CDTF">2012-09-26T15:37:49Z</dcterms:modified>
  <cp:revision>15</cp:revision>
  <dc:subject/>
  <dc:title>THE ACCOUNTING EQUATION</dc:title>
</cp:coreProperties>
</file>